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6FED-9B74-43D9-8D18-48B3EC92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3A8C-C6FE-458D-80FE-0039CDA5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0536-9FFA-4AFE-9AC9-8B1031AA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C199-9DA4-46A2-A5C0-18190CA8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8E66-9C1F-408E-B54C-433CC2B7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0856-E316-4B30-8BB3-A6A82315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90CB-0378-4032-8D5F-8EDDADA7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453D-8429-499A-9614-862AD815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1B9F-AF78-4E8D-896D-DBE6FAC5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CB10-0007-47C1-A9E9-35E17E65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28D1-6587-462E-8949-412E84C0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A478-1134-43EF-8F30-51AB6EAF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089B-726F-41D7-80E9-37933448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2F83-CBE0-4C2A-B7D6-CD044F40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EFFD-9960-41DE-B3A3-74CC1B1B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C662-92FA-43BC-A56C-127302B8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496B-88A9-4DF6-92C5-05BC1AD7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336D-5CA0-4398-8CE2-3AC5F94E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9BF6-01DA-4973-901E-68C3E22C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4F70-927D-484C-87BA-70ECE19C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EDE9-699C-40AF-91DB-BC664811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E6CC-EB62-4486-9086-2F972932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C5E8-45C7-43A8-A83C-37E3D21E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67DB-634B-4DED-B1A9-B2ECD25B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1605-4D50-4062-A4B5-9CD275C34A35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98BF-61B7-4DDA-BD90-CB684761B535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486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the auction question: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the traditional Scottish men’s clothes?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59432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33960" y="5441040"/>
            <a:ext cx="113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Kil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867280" y="457200"/>
            <a:ext cx="19814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7T16:29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